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E132-5B96-49FC-B1DE-8C6A5F9AB4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../slides/slide9.xml"/><Relationship Id="rId5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сударственное образовательное учреждение среднего профессионального образования Комитета по здравоохранению Администрации Волгоградской области «Медицинский колледж №1, Волгоград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Calibri"/>
              </a:rPr>
              <a:t>Первая помощь при пищевом отравл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F348-24A9-4F50-8CBE-64A8E3200B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Микробные отравления (пищевые токсикоинфе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Микробные отравления (пищевые токсикоинфекции): группа наиболее распространенных острых пищевых отравлений, связанных с употреблением в пищу продуктов, зараженных патогенными микробами и их токс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8543-24EB-4CE1-B8F1-092FC32ECF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травления, связанные с употреблением в пищу ядовитых растений и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Ядовитые растения и животные – одна из главных причин пищевого отравления (связанно с употреблением в пищу ядовитых грибов, ягод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4737-9C97-4B59-B548-EA1E817DF7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травления химическими веществами различных катего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травления, вызванные химическими веществами (связанно с употреблением в пищу различных химических средств в больших количествах,  и т.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863E-4695-4983-A284-40376315CF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ак оказать первую помощ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39D5-69A9-409B-B484-4A533F4CD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хема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1. Промыть желудок теплой кипяченой и немного подсоленной водой. Поставить очистительную клизму с добавлением яблочного уксуса (2 ст. ложки уксуса на 2 литра теплой воды). После этого лечь в постель и положить теплую грелку на жив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2. Приготовить раствор яблочного уксуса в воде (2 ст. ложки на стакан). Пить по 1 ч. ложке раствора каждые 5 минут в течение суток. Ничего не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3. На второй день вновь поставить клизму с разбавленным уксусом и пить раствор яблочного уксуса в течение дня по 1 ч. ложке. Ничего не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Calibri"/>
              </a:rPr>
              <a:t>4. На третий день начинать есть протертые каши и чай с сухарями. Пить разбавленный яблочный уксус 3 раза в день по 1 стакану (1 ст. ложка уксуса на стак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E4D7-30FA-4C35-810A-B5BF4CC81E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Calibri"/>
              </a:rPr>
              <a:t>Информационные 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ff"/>
                </a:solidFill>
                <a:latin typeface="Calibri"/>
              </a:rPr>
              <a:t>CD-R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«Первая медицинская помощ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ff"/>
                </a:solidFill>
                <a:latin typeface="Calibri"/>
              </a:rPr>
              <a:t>www.yandex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«Современная медицинская энциклопед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2819-81BE-4AC7-A0A8-2CD9E7851D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лагодарим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179D-4E03-4D60-B931-83F384DC6B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ищеварительная систем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это система органов, при помощи которых тело получает питательные вещества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дачей пищеварительных органов является прием пищи, ее механическое раздробление в процессе жевания и химическое расщепление под действием слюны, желудочного сока, желчи и секрета поджелудочной жел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2EEC-A30E-4E1B-8DC6-260C2EC1B4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60093"/>
                </a:solidFill>
                <a:latin typeface="Calibri"/>
              </a:rPr>
              <a:t>Основным видом повреждений органов пищеварительного тракта являются инородны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F9EF-73A5-43F1-BE42-1D62357931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Причиной пищевых отравлений является в большинстве случаев бактериальное загрязнение продуктов при их приготовлении, хранении, транспортировке. Они вызываются такими микроорганизмами, как сальмонеллы, стафилококки, кишечная палочка и палоч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ботулизм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834D-F63C-48BC-95B9-D878A81BE5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ищевые отравления в основном сопровождаются тошнотой, рвотой, поносом, болями в области желудка и кишечника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лезнь длится 2-5 дней, затем, почти во всех случаях, наступает самоизлечение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страдавшему от пищевого отравления рекомендуется покой, большое количество жидкости, постельный режим и голодание. Потребление пищи обычно вызывает ухудшение общего состо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A76B-4E21-4CD6-9412-5FAC89F8CD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33"/>
                </a:solidFill>
                <a:latin typeface="Calibri"/>
              </a:rPr>
              <a:t>В органах пищеварения возникают внезапные патологические состояния, при которых необходима первая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F736-D0B1-4402-8EDA-95679D3240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Каждый человек должен уметь оказать первую помощь по мере своих способностей и возможностей.</a:t>
            </a:r>
            <a:br>
              <a:rPr sz="1200"/>
            </a:b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Жизнь и здоровье пострадавшего человека зависят от оказания первой помощи лицами без специального медицин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012D-1AB3-4E4B-A5D3-6411397442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ервая помощь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– это совокупность простых , целесообразных мер по охране здоровья и жизни пострадавшего.</a:t>
            </a:r>
            <a:br>
              <a:rPr sz="1200"/>
            </a:b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равильно оказанная первая помощь сокращает время специального лечения.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овремя оказанная первая помощь дает шанс пострадавшему выж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B5D8-95C1-4EA6-AA0F-CA9D649603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иболее распространенные типы пищевых отравлений 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Микробные отравления (пищевые токсикоинфекци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Отравления, связанные с употреблением в пищу ядовитых растений и живо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. Отравления химическими веществами различных категорий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E580-3259-4F1F-80FD-ACFB8A89A8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5BB-67D5-496B-8323-B17521C3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A12E-AF1C-4681-9804-3B2E16F2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5D00-F54C-46D4-BD93-5F768CF4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0C2-C4FD-4C4B-8113-01C480E0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C43-DDE3-46D3-AAF2-7CC35285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92F1-B475-4D7B-9009-6B41C80B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B996-6DBF-4D36-91D5-04388917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0CA-6BEB-45E5-B189-3B48AFFC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3866-09A8-477B-A940-AD9420AE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0BC-9490-4BD5-82A8-D3791BE4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3DE-0465-4DDE-A21C-1B40771C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1BFD-2F98-424A-80C6-1923CAC3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6EEB-296B-42B3-AE55-C0E9025A86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d1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а по здравоохранению Администрации Волгоградской области «Медицинский колледж №1, Волгогра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384200"/>
            <a:ext cx="727236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66"/>
                </a:solidFill>
                <a:latin typeface="Arial"/>
              </a:rPr>
              <a:t>Первая помощь при пищевом отравл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580000" y="4925880"/>
            <a:ext cx="35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ыполнила студентка гр.М-4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рикуненкова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987640" y="6110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Волгоград, 20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2_4A"/>
          <p:cNvPicPr/>
          <p:nvPr/>
        </p:nvPicPr>
        <p:blipFill>
          <a:blip r:embed="rId1"/>
          <a:stretch/>
        </p:blipFill>
        <p:spPr>
          <a:xfrm>
            <a:off x="611280" y="2768760"/>
            <a:ext cx="4043160" cy="3321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357120" y="164304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Микробные отравления (пищевые токсикоинфекции): группа наиболее распространенных острых пищевых отравлений, связанных с употреблением в пищу продуктов, зараженных патогенными микробами и их токсин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357200" y="142920"/>
            <a:ext cx="707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икробные отравления (пищевые токсикоинфек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7.jpeg"/>
          <p:cNvPicPr/>
          <p:nvPr/>
        </p:nvPicPr>
        <p:blipFill>
          <a:blip r:embed="rId1"/>
          <a:stretch/>
        </p:blipFill>
        <p:spPr>
          <a:xfrm>
            <a:off x="500040" y="3071880"/>
            <a:ext cx="3522600" cy="3000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11.jpeg"/>
          <p:cNvPicPr/>
          <p:nvPr/>
        </p:nvPicPr>
        <p:blipFill>
          <a:blip r:embed="rId2"/>
          <a:stretch/>
        </p:blipFill>
        <p:spPr>
          <a:xfrm>
            <a:off x="4500720" y="3071880"/>
            <a:ext cx="3960720" cy="2928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500040" y="17859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Ядовитые растения и животные – одна из главных причин пищевого отравления (связанно с употреблением в пищу ядовитых грибов, ягод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785880" y="14292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равления, связанные с употреблением в пищу ядовитых растений и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2.jpeg"/>
          <p:cNvPicPr/>
          <p:nvPr/>
        </p:nvPicPr>
        <p:blipFill>
          <a:blip r:embed="rId1"/>
          <a:stretch/>
        </p:blipFill>
        <p:spPr>
          <a:xfrm>
            <a:off x="428760" y="3214800"/>
            <a:ext cx="401004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12.jpeg"/>
          <p:cNvPicPr/>
          <p:nvPr/>
        </p:nvPicPr>
        <p:blipFill>
          <a:blip r:embed="rId2"/>
          <a:stretch/>
        </p:blipFill>
        <p:spPr>
          <a:xfrm>
            <a:off x="4572000" y="3214800"/>
            <a:ext cx="3979800" cy="3000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928800" y="214200"/>
            <a:ext cx="69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равления химическими веществами различных катего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85880" y="17859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Отравления, вызванные химическими веществами (связанно с употреблением в пищу различных химических средств в больших количествах,  и т.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i.jpeg"/>
          <p:cNvPicPr/>
          <p:nvPr/>
        </p:nvPicPr>
        <p:blipFill>
          <a:blip r:embed="rId1"/>
          <a:stretch/>
        </p:blipFill>
        <p:spPr>
          <a:xfrm>
            <a:off x="2643120" y="3000240"/>
            <a:ext cx="3786120" cy="3457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931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Как оказать первую помощ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11280" y="692280"/>
            <a:ext cx="7705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до прихода врача промыть желудок как можно быстрее большим количеством 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дать слабительное (2 столовые ложки касторового масл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делать глубокую клизму с 2 ложками касторового масла или крепким настоем ромаш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через каждые полчаса давать горячее питье, крепкий чай, кофе, горячее ви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полезны теплые ванны и общее согре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астереть тело суконкой, смоченной в уксусе или вод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вызвать «скорую помощ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rticles"/>
          <p:cNvPicPr/>
          <p:nvPr/>
        </p:nvPicPr>
        <p:blipFill>
          <a:blip r:embed="rId1"/>
          <a:stretch/>
        </p:blipFill>
        <p:spPr>
          <a:xfrm>
            <a:off x="2124000" y="4005360"/>
            <a:ext cx="4753080" cy="25225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0" y="2349360"/>
            <a:ext cx="8424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2. Приготовить раствор яблочного уксуса в воде (2 ст. ложки на стакан). Пить по 1 ч. ложке раствора каждые 5 минут в течение суток. Ничего не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3429000"/>
            <a:ext cx="6985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3. На второй день вновь поставить клизму с разбавленным уксусом и пить раствор яблочного уксуса в течение дня по 1 ч. ложке. Ничего не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0" y="4653000"/>
            <a:ext cx="8064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4. На третий день начинать есть протертые каши и чай с сухарями. Пить разбавленный яблочный уксус 3 раза в день по 1 стакану (1 ст. ложка уксуса на стака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755640" y="26028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хема л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0" y="907920"/>
            <a:ext cx="8028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1. Промыть желудок теплой кипяченой и немного подсоленной водой. Поставить очистительную клизму с добавлением яблочного уксуса (2 ст. ложки уксуса на 2 литра теплой воды). После этого лечь в постель и положить теплую грелку на жив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нформационные 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285920" y="128592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CD-R </a:t>
            </a: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«Первая медицинская помощ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www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«Современная медицинская энциклопед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87325_books_pic"/>
          <p:cNvPicPr/>
          <p:nvPr/>
        </p:nvPicPr>
        <p:blipFill>
          <a:blip r:embed="rId1"/>
          <a:stretch/>
        </p:blipFill>
        <p:spPr>
          <a:xfrm>
            <a:off x="1714680" y="2928960"/>
            <a:ext cx="5857560" cy="380664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0" y="1928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Благодарим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8680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ищеварительная систем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– это система органов, при помощи которых тело получает питательные вещества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дачей пищеварительных органов является прием пищи, ее механическое раздробление в процессе жевания и химическое расщепление под действием слюны, желудочного сока, желчи и секрета поджелудочной желе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EMA17"/>
          <p:cNvPicPr/>
          <p:nvPr/>
        </p:nvPicPr>
        <p:blipFill>
          <a:blip r:embed="rId1"/>
          <a:stretch/>
        </p:blipFill>
        <p:spPr>
          <a:xfrm>
            <a:off x="684360" y="2708280"/>
            <a:ext cx="2803320" cy="414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07020601"/>
          <p:cNvPicPr/>
          <p:nvPr/>
        </p:nvPicPr>
        <p:blipFill>
          <a:blip r:embed="rId2"/>
          <a:stretch/>
        </p:blipFill>
        <p:spPr>
          <a:xfrm>
            <a:off x="3708360" y="2733840"/>
            <a:ext cx="3208320" cy="41241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Arial"/>
              </a:rPr>
              <a:t>Основным видом повреждений органов пищеварительного тракта являются инородные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2349360"/>
            <a:ext cx="352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Попадание в пищеварительный тракт едких ядов – кислот и щелочей – вызывает разъедание слизистой оболочки ротовой полости, пищевода и желу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7_4A"/>
          <p:cNvPicPr/>
          <p:nvPr/>
        </p:nvPicPr>
        <p:blipFill>
          <a:blip r:embed="rId1"/>
          <a:stretch/>
        </p:blipFill>
        <p:spPr>
          <a:xfrm>
            <a:off x="3851280" y="1700280"/>
            <a:ext cx="4989600" cy="37418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382716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Причиной пищевых отравлений является в большинстве случаев бактериальное загрязнение продуктов при их приготовлении, хранении, транспортировке. Они вызываются такими микроорганизмами, как сальмонеллы, стафилококки, кишечная палочка и палоч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ботулизм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0_709b_7e44cef9_S"/>
          <p:cNvPicPr/>
          <p:nvPr/>
        </p:nvPicPr>
        <p:blipFill>
          <a:blip r:embed="rId1"/>
          <a:stretch/>
        </p:blipFill>
        <p:spPr>
          <a:xfrm>
            <a:off x="4643280" y="428760"/>
            <a:ext cx="4214880" cy="28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0_7d78_eb8ea104_S"/>
          <p:cNvPicPr/>
          <p:nvPr/>
        </p:nvPicPr>
        <p:blipFill>
          <a:blip r:embed="rId2"/>
          <a:stretch/>
        </p:blipFill>
        <p:spPr>
          <a:xfrm>
            <a:off x="4643280" y="3571920"/>
            <a:ext cx="4233960" cy="27954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14716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ищевые отравления в основном сопровождаются тошнотой, рвотой, поносом, болями в области желудка и кишечника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олезнь длится 2-5 дней, затем, почти во всех случаях, наступает самоизлечение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страдавшему от пищевого отравления рекомендуется покой, большое количество жидкости, постельный режим и голодание. Потребление пищи обычно вызывает ухудшение общего со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354184-001"/>
          <p:cNvPicPr/>
          <p:nvPr/>
        </p:nvPicPr>
        <p:blipFill>
          <a:blip r:embed="rId1"/>
          <a:stretch/>
        </p:blipFill>
        <p:spPr>
          <a:xfrm>
            <a:off x="214200" y="3500280"/>
            <a:ext cx="3902040" cy="2571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3"/>
          <p:cNvPicPr/>
          <p:nvPr/>
        </p:nvPicPr>
        <p:blipFill>
          <a:blip r:embed="rId2"/>
          <a:stretch/>
        </p:blipFill>
        <p:spPr>
          <a:xfrm>
            <a:off x="4643280" y="3500280"/>
            <a:ext cx="4340520" cy="25164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3613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33"/>
                </a:solidFill>
                <a:latin typeface="Arial"/>
              </a:rPr>
              <a:t>В органах пищеварения возникают внезапные патологические состояния, при которых необходима первая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55250-016"/>
          <p:cNvPicPr/>
          <p:nvPr/>
        </p:nvPicPr>
        <p:blipFill>
          <a:blip r:embed="rId1"/>
          <a:stretch/>
        </p:blipFill>
        <p:spPr>
          <a:xfrm>
            <a:off x="142920" y="2286000"/>
            <a:ext cx="449100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255229-001"/>
          <p:cNvPicPr/>
          <p:nvPr/>
        </p:nvPicPr>
        <p:blipFill>
          <a:blip r:embed="rId2"/>
          <a:stretch/>
        </p:blipFill>
        <p:spPr>
          <a:xfrm>
            <a:off x="4929120" y="2286000"/>
            <a:ext cx="3619440" cy="38163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978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Каждый человек должен уметь оказать первую помощь по мере своих способностей и возможностей.</a:t>
            </a:r>
            <a:br>
              <a:rPr sz="2400"/>
            </a:b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Жизнь и здоровье пострадавшего человека зависят от оказания первой помощи лицами без специального медицинск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2_1A"/>
          <p:cNvPicPr/>
          <p:nvPr/>
        </p:nvPicPr>
        <p:blipFill>
          <a:blip r:embed="rId1"/>
          <a:stretch/>
        </p:blipFill>
        <p:spPr>
          <a:xfrm>
            <a:off x="1835280" y="2565360"/>
            <a:ext cx="5473440" cy="39481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99640" y="3357720"/>
            <a:ext cx="7643880" cy="32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вая помощь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– это совокупность простых , целесообразных мер по охране здоровья и жизни пострадавшего.</a:t>
            </a:r>
            <a:br>
              <a:rPr sz="2400"/>
            </a:b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равильно оказанная первая помощь сокращает время специального лечения.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овремя оказанная первая помощь дает шанс пострадавшему вы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9.jpeg"/>
          <p:cNvPicPr/>
          <p:nvPr/>
        </p:nvPicPr>
        <p:blipFill>
          <a:blip r:embed="rId1"/>
          <a:stretch/>
        </p:blipFill>
        <p:spPr>
          <a:xfrm>
            <a:off x="1000080" y="57168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.jpeg"/>
          <p:cNvPicPr/>
          <p:nvPr/>
        </p:nvPicPr>
        <p:blipFill>
          <a:blip r:embed="rId2"/>
          <a:stretch/>
        </p:blipFill>
        <p:spPr>
          <a:xfrm>
            <a:off x="4643280" y="571680"/>
            <a:ext cx="3929400" cy="30002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785880" y="357120"/>
            <a:ext cx="721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иболее распространенные типы пищевых отравлений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>
            <a:hlinkClick r:id="" action="ppaction://hlinkshowjump?jump=nextslide"/>
          </p:cNvPr>
          <p:cNvSpPr/>
          <p:nvPr/>
        </p:nvSpPr>
        <p:spPr>
          <a:xfrm>
            <a:off x="1571760" y="1857240"/>
            <a:ext cx="521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Микробные отравления (пищевые токсикоинфекц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714680" y="3000240"/>
            <a:ext cx="535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равления, связанные с употреблением в пищу ядовитых растений и живо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714680" y="4714920"/>
            <a:ext cx="5715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. Отравления химическими веществами различных категор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05:40:48Z</dcterms:created>
  <dc:creator>STUDENT</dc:creator>
  <dc:description/>
  <dc:language>en-US</dc:language>
  <cp:lastModifiedBy>LEGION</cp:lastModifiedBy>
  <dcterms:modified xsi:type="dcterms:W3CDTF">2015-05-12T08:55:05Z</dcterms:modified>
  <cp:revision>24</cp:revision>
  <dc:subject/>
  <dc:title>Первая помощь при пищевом отравлении</dc:title>
</cp:coreProperties>
</file>